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0459-A090-4ED9-B61F-55BBF64291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29A-5E88-4176-A224-0836F864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3, 2011: Make the cycle run counterclockwise, keeping beta1 on top and returning to Min’s model exa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29D-2336-4CC7-A708-2D7452CB4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F8C-A482-44E4-AF72-AE4BC71F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A4E-1431-4B9E-AE69-CA8CA013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283-3C8B-40B2-97A7-337BDFC7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2FD-665F-4957-8E79-DB6A2A05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6E3-89B0-4EC1-8D57-8A8A40A8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B7A-4C57-4E0C-A22A-F05558F0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04E-B4A1-4251-B060-BFF5B34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D18A-1866-4AC0-92DB-03FBBE2B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32D-1300-4142-B399-AC9BDA7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CCF5-7326-4F5B-86AD-A4CFF57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C77-596A-4A2F-9798-9E583976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DA6-248D-4EE0-8178-BD66AF5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9AF8-E137-4920-AD27-924706159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219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934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atex-image-1.pdf"/>
          <p:cNvPicPr/>
          <p:nvPr/>
        </p:nvPicPr>
        <p:blipFill>
          <a:blip r:embed="rId1"/>
          <a:stretch/>
        </p:blipFill>
        <p:spPr>
          <a:xfrm>
            <a:off x="1530360" y="2749680"/>
            <a:ext cx="444600" cy="39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latex-image-1.pdf"/>
          <p:cNvPicPr/>
          <p:nvPr/>
        </p:nvPicPr>
        <p:blipFill>
          <a:blip r:embed="rId2"/>
          <a:stretch/>
        </p:blipFill>
        <p:spPr>
          <a:xfrm>
            <a:off x="4430880" y="274968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latex-image-1.pdf"/>
          <p:cNvPicPr/>
          <p:nvPr/>
        </p:nvPicPr>
        <p:blipFill>
          <a:blip r:embed="rId3"/>
          <a:stretch/>
        </p:blipFill>
        <p:spPr>
          <a:xfrm>
            <a:off x="7162920" y="2743200"/>
            <a:ext cx="482400" cy="46980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14"/>
          <p:cNvCxnSpPr>
            <a:stCxn id="48" idx="3"/>
            <a:endCxn id="49" idx="1"/>
          </p:cNvCxnSpPr>
          <p:nvPr/>
        </p:nvCxnSpPr>
        <p:spPr>
          <a:xfrm>
            <a:off x="2286000" y="2971800"/>
            <a:ext cx="182916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5" name="Straight Arrow Connector 18"/>
          <p:cNvCxnSpPr/>
          <p:nvPr/>
        </p:nvCxnSpPr>
        <p:spPr>
          <a:xfrm flipH="1" flipV="1">
            <a:off x="5180760" y="2666160"/>
            <a:ext cx="1753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20"/>
          <p:cNvCxnSpPr/>
          <p:nvPr/>
        </p:nvCxnSpPr>
        <p:spPr>
          <a:xfrm>
            <a:off x="5181120" y="3429000"/>
            <a:ext cx="175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457164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 flipH="1">
            <a:off x="739116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24" descr="latex-image-1.pdf"/>
          <p:cNvPicPr/>
          <p:nvPr/>
        </p:nvPicPr>
        <p:blipFill>
          <a:blip r:embed="rId4"/>
          <a:stretch/>
        </p:blipFill>
        <p:spPr>
          <a:xfrm>
            <a:off x="3029040" y="2617920"/>
            <a:ext cx="215640" cy="29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latex-image-1.pdf"/>
          <p:cNvPicPr/>
          <p:nvPr/>
        </p:nvPicPr>
        <p:blipFill>
          <a:blip r:embed="rId5"/>
          <a:stretch/>
        </p:blipFill>
        <p:spPr>
          <a:xfrm>
            <a:off x="5867280" y="2209680"/>
            <a:ext cx="35568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latex-image-1.pdf"/>
          <p:cNvPicPr/>
          <p:nvPr/>
        </p:nvPicPr>
        <p:blipFill>
          <a:blip r:embed="rId6"/>
          <a:stretch/>
        </p:blipFill>
        <p:spPr>
          <a:xfrm>
            <a:off x="5867280" y="2971800"/>
            <a:ext cx="368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2:56Z</dcterms:created>
  <dc:creator>Earl Monroe</dc:creator>
  <dc:description/>
  <dc:language>en-US</dc:language>
  <cp:lastModifiedBy>Earl Monroe</cp:lastModifiedBy>
  <dcterms:modified xsi:type="dcterms:W3CDTF">2011-06-03T17:30:08Z</dcterms:modified>
  <cp:revision>10</cp:revision>
  <dc:subject/>
  <dc:title>PowerPoint Presentation</dc:title>
</cp:coreProperties>
</file>